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77A8-1F6D-4567-AC65-7607C7EE3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77A8-A1E0-4368-A0CE-EFA71ACD8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8636-A74A-4BC7-9B41-11B960C5E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4D16-B125-4B7B-8719-0F6FF6C43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AAA77-9D30-4169-B6BA-3FDD63149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1F1B0-7563-46A0-8B6D-273AC8FCB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14BD3-C571-46B2-822A-3733AA291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A4C5E-282B-4870-9F1F-2D823A818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BF65C-1304-4151-9C0C-54497B59D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2C922-550E-43EB-9CE0-4A61B4503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AE3AB-5844-4143-BB8E-4645E804C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C2F8-37DC-4C35-84A2-BE8D5F5FB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964F3-903D-48A2-9FE7-9D7394F7E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70039-BA2F-454E-922E-153280264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08B99-1609-4DEC-AE56-988FA2337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BB3EF-3470-45CC-B429-36D004483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5D953-0B72-4F57-BD5D-DD1F954C8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72F4-1526-4B83-A770-7106453E0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A84D-0C9E-45D5-9784-4810053E9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561B-6643-46AA-900D-E0714031A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03AF-2AC9-4F25-BE69-815613525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17A6-7B36-4DDF-A16E-D4AE72190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559B-C669-46EC-954D-E94B9BEE6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957D-7F8F-4C6A-A2A8-E6F590D4D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957D6-1593-4E64-89B7-88296696B44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C531A-901A-4B38-B356-178BB371DF1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babygates.com/WebComponents/Catalog/Public/showproduct.asp?id=341&amp;cat=Childproofin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babygates.com/WebComponents/Catalog/Public/showproduct.asp?id=693&amp;cat=Childproofing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www.babygates.com/WebComponents/Catalog/Public/showproduct.asp?id=168&amp;cat=Childproofing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www.babygates.com/WebComponents/Catalog/Public/showproduct.asp?id=169&amp;cat=Childproofing" TargetMode="External"/><Relationship Id="rId8" Type="http://schemas.openxmlformats.org/officeDocument/2006/relationships/image" Target="../media/image5.jpeg"/><Relationship Id="rId9" Type="http://schemas.openxmlformats.org/officeDocument/2006/relationships/hyperlink" Target="http://www.babygates.com/WebComponents/Catalog/Public/showproduct.asp?id=175&amp;cat=Childproofing" TargetMode="External"/><Relationship Id="rId10" Type="http://schemas.openxmlformats.org/officeDocument/2006/relationships/image" Target="../media/image6.jpe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abygates.com/WebComponents/Catalog/Public/showproduct.asp?id=183&amp;cat=Childproofin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babygates.com/WebComponents/Catalog/Public/showproduct.asp?id=192&amp;cat=Childproofing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spinlife.com/critpath/match.cfm?categoryID=113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600" y="17521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Times New Roman"/>
              </a:rPr>
              <a:t>Housing to Meet Special Needs of Families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etency 1.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rry Broo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W Butler High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467480" y="5105520"/>
            <a:ext cx="13716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b bars in bath and rubber or non-slip flo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t in shower/tub, chairs with a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Shower Size No-Slip Bath Mat"/>
          <p:cNvPicPr/>
          <p:nvPr/>
        </p:nvPicPr>
        <p:blipFill>
          <a:blip r:embed="rId1"/>
          <a:stretch/>
        </p:blipFill>
        <p:spPr>
          <a:xfrm>
            <a:off x="3048120" y="2209680"/>
            <a:ext cx="28000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to sit while preparing meals, varied height counters, room for kne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Wheelchair accessible stove"/>
          <p:cNvPicPr/>
          <p:nvPr/>
        </p:nvPicPr>
        <p:blipFill>
          <a:blip r:embed="rId1"/>
          <a:stretch/>
        </p:blipFill>
        <p:spPr>
          <a:xfrm>
            <a:off x="1219320" y="266688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adas ada wheelchair accessible sink"/>
          <p:cNvPicPr/>
          <p:nvPr/>
        </p:nvPicPr>
        <p:blipFill>
          <a:blip r:embed="rId2"/>
          <a:stretch/>
        </p:blipFill>
        <p:spPr>
          <a:xfrm>
            <a:off x="4876920" y="2666880"/>
            <a:ext cx="28573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58880" y="228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66"/>
                </a:solidFill>
                <a:latin typeface="Times New Roman"/>
              </a:rPr>
              <a:t>Impaired Vis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 the flooring changes with wide strips of contrasting adhesive t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large type or Braille on any product that would be considered poisonous (household clean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ll furniture with sharp corners, glass tops, or that can turn over eas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ephone should have large numerals or Braille.  Pre-program all emergency phone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T-LITE A hands-free magnifying accessory. The neck extends to cover large areas. The lens rotates for easy viewing. The flexible shaft provides universal positioning. 3X magnif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3X magnifier"/>
          <p:cNvPicPr/>
          <p:nvPr/>
        </p:nvPicPr>
        <p:blipFill>
          <a:blip r:embed="rId1"/>
          <a:stretch/>
        </p:blipFill>
        <p:spPr>
          <a:xfrm>
            <a:off x="6477120" y="3505320"/>
            <a:ext cx="150480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66"/>
                </a:solidFill>
                <a:latin typeface="Times New Roman"/>
              </a:rPr>
              <a:t>Hearing Impaire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 lighting to flash for doorbell, smoke alarms, and teleph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portable vibrating timers in kitch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TY/TDD telephone (can type message into phone to be receiv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nic Shake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alarm clock"/>
          <p:cNvPicPr/>
          <p:nvPr/>
        </p:nvPicPr>
        <p:blipFill>
          <a:blip r:embed="rId1"/>
          <a:stretch/>
        </p:blipFill>
        <p:spPr>
          <a:xfrm>
            <a:off x="4724280" y="4267080"/>
            <a:ext cx="285768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esources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ousing Decis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pages 108-1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ousing and Interio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pages 31-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ww.spinlife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yright ©2007, ABCD, All rights reser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ed by Ronald Mace at NCSU “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versal design is the design of products and environments to be usable by all people, to the greatest extent possible, without the need for adaptation or specialized desig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universal design is to simplify life for everyone by making products, communications, and the built environment more usable by as many people as possible a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ittle or no extra cost.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Universal design benefits people of all ages and 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8880" y="228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66"/>
                </a:solidFill>
                <a:latin typeface="Times New Roman"/>
              </a:rPr>
              <a:t>Special Needs for Childre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 gates at top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ottom of sta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 all household (cleaners, medicines, etc) behind locked do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62920" y="2209680"/>
            <a:ext cx="1238040" cy="12286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14400" y="457200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590920" y="4648320"/>
            <a:ext cx="952560" cy="7999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419720" y="4724280"/>
            <a:ext cx="952560" cy="6955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172200" y="4648320"/>
            <a:ext cx="95256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 plastic outlet caps over all unused electrical outl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e cords of blinds high so children cannot reach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81280" y="2819520"/>
            <a:ext cx="1276560" cy="10285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72200" y="2666880"/>
            <a:ext cx="11811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ep children away from any area that may have toxic or lead-based pai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osi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uch as acids, bleach, drain cleaner  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mmab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urns easily Paint and Paint thinner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i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xplosive or produces deadly vapor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xic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oisonous to humans)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781680" y="4114800"/>
            <a:ext cx="174312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66"/>
                </a:solidFill>
                <a:latin typeface="Times New Roman"/>
              </a:rPr>
              <a:t>Elderly</a:t>
            </a:r>
            <a:r>
              <a:rPr b="0" lang="en-US" sz="4200" spc="-1" strike="noStrike">
                <a:solidFill>
                  <a:srgbClr val="ff0066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all floors to be of one type (all wood, all vinyl) for better mobility. Remove all rugs so not to sl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safety bars in the bathroom near toilet and bathtu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#27 bath tub grab bar"/>
          <p:cNvPicPr/>
          <p:nvPr/>
        </p:nvPicPr>
        <p:blipFill>
          <a:blip r:embed="rId1"/>
          <a:stretch/>
        </p:blipFill>
        <p:spPr>
          <a:xfrm>
            <a:off x="4343400" y="3581280"/>
            <a:ext cx="2666880" cy="18129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Grab Bar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143000" y="4114800"/>
            <a:ext cx="161928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safety seats in tu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additional lighting in hallways and night ligh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lever handles on do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Nova Deluxe Shower Bench W/Out Back Stools &amp; Seats"/>
          <p:cNvPicPr/>
          <p:nvPr/>
        </p:nvPicPr>
        <p:blipFill>
          <a:blip r:embed="rId1"/>
          <a:stretch/>
        </p:blipFill>
        <p:spPr>
          <a:xfrm>
            <a:off x="1676520" y="220968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Invacare Bariatric Shower Chair with Back Stools &amp; Seats"/>
          <p:cNvPicPr/>
          <p:nvPr/>
        </p:nvPicPr>
        <p:blipFill>
          <a:blip r:embed="rId2"/>
          <a:stretch/>
        </p:blipFill>
        <p:spPr>
          <a:xfrm>
            <a:off x="3809880" y="2133720"/>
            <a:ext cx="1428840" cy="14284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Click to view product #SCH-ACCENT"/>
          <p:cNvPicPr/>
          <p:nvPr/>
        </p:nvPicPr>
        <p:blipFill>
          <a:blip r:embed="rId3"/>
          <a:stretch/>
        </p:blipFill>
        <p:spPr>
          <a:xfrm>
            <a:off x="1447920" y="5181480"/>
            <a:ext cx="142848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be Smoke Det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Gentex Strobe Smoke Detector"/>
          <p:cNvPicPr/>
          <p:nvPr/>
        </p:nvPicPr>
        <p:blipFill>
          <a:blip r:embed="rId1"/>
          <a:stretch/>
        </p:blipFill>
        <p:spPr>
          <a:xfrm>
            <a:off x="6019920" y="1752480"/>
            <a:ext cx="22860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66"/>
                </a:solidFill>
                <a:latin typeface="Times New Roman"/>
              </a:rPr>
              <a:t>Impaired Mobility and/or Wheel Chair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m doorway thresholds so they are flush with flo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handrails on both sides of stairs and hallways. Should extend at least 18” beyond last s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05320" y="3733920"/>
            <a:ext cx="38304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3T17:59:47Z</dcterms:created>
  <dc:creator>s.brooks</dc:creator>
  <dc:description/>
  <dc:language>en-US</dc:language>
  <cp:lastModifiedBy>s.brooks</cp:lastModifiedBy>
  <dcterms:modified xsi:type="dcterms:W3CDTF">2009-01-05T20:22:21Z</dcterms:modified>
  <cp:revision>23</cp:revision>
  <dc:subject/>
  <dc:title>Housing to Meet Special Needs of Families</dc:title>
</cp:coreProperties>
</file>